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AAB-5376-44AF-BBBC-86BF5E8A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2BC-0AA7-4BEE-A88B-FBC7D82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25C-2E96-4231-92A6-0710A7D1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CB6-9E76-4968-A3A8-98EA49BC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8770-F042-4AB9-ADC6-75FEC291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322E-503F-4DC3-98EB-FB8B69C8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0F0C-D34A-4109-9777-868E6D9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F49-D4D3-49D2-BA98-61875997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6D74-9667-4FAD-AE74-C7F54BD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D81-BAE2-438F-A78D-A302D0E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7A85-7FA8-4C8E-B8B6-328CE67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10B-DA86-426C-9DA6-6238879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56CD-EAA1-4955-9F6D-8FBFBC08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F96-FADB-4C2D-BDE7-7D64B0C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08DD-A7EB-4D4F-B434-DA7DA21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A88F-492E-40C2-949D-89412D2A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48F2-C40B-45CD-9537-5A8B56C7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B95-DAA6-4E64-96F8-57510331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C35-90EC-447F-832D-9423F976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B40-7D25-4EC9-8154-3087F75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CAB-AF7D-43BC-9957-AB6054F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8E1-8545-4907-84FF-BE8F9B1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073-DAE7-4931-A82B-9B87547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609-77DD-4CC3-811B-8FAB88A9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72CD-B780-4FDF-A7C7-3560293603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8A0-97FC-4E00-A9BF-3E9B88C32E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openref.com/polygon.html" TargetMode="External"/><Relationship Id="rId2" Type="http://schemas.openxmlformats.org/officeDocument/2006/relationships/hyperlink" Target="http://www.mathopenref.com/polygoninteriorangles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34858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is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gruen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wo shapes are congruent if they are the same (shape and size)- in other words, if the lengths of the sides and the angles are the same. It is often useful to know when two triangles are congruent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it mean for polygons to be congru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Polygons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are congruent when they have the same number of sides, and all corresponding sides and </a:t>
            </a: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interior angles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are congruent. The polygons will have the same shape and size, but one may be a rotated, or be the mirror image of the oth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gruent triang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Two congruent triangles"/>
          <p:cNvPicPr/>
          <p:nvPr/>
        </p:nvPicPr>
        <p:blipFill>
          <a:blip r:embed="rId1"/>
          <a:stretch/>
        </p:blipFill>
        <p:spPr>
          <a:xfrm>
            <a:off x="1371600" y="2389320"/>
            <a:ext cx="59436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5 shortcu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ive shortcuts to determining if triangles are congruent are AAS, SSS, AAA, SAS, AS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 Assume SAS and prove AS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e have two triangles, as shown in the diagram. Angle A=angle EDF, angle B=angle E, and AB=DE (Note that I am using=to mean "congruent"). Prove that the two triangles are congrue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f BC=EF, then the two triangles are congruent, by SAS. So, assume that BC not=EF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re is a point G, on EF (perhaps extended), on the same side of the line DE, so that EG=BC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iangle ABC=triangle DEG [by SAS]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ngle EDF=angle EDG [definition of congruent triangles]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 DF and DG are the same line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F and EF intersect at both F and G. So, F &amp; G are the same point [two distinct lines intersect in only one point]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 EF=EG=BC, which contradicts our assumption that BC not=EF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 BC=EF, and the triangles are congruent by SAS, as mentioned in step #1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152280"/>
            <a:ext cx="3657600" cy="14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ssume ASA and prove SA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e have two triangles, as shown in the diagram. Angle A=angle D, AB=DE, and AC=DF. Prove that the two triangles are congru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f angle B=angle DEF, then the two triangles are congruent, by ASA. So, assume that angle B not=angle DEF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raw a line EG, so that angle DEG=angle B (with G on the same side of DE as F)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G intersects line DEF (perhaps extended) at some point H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iangle ABC=triangle DEG [ASA]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=DH [definition of congruent triangles]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H=DF [both=AC]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 and F are the same point. And EH and EF are the same line. And angle DEG and angle DEF are the same angle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at contradicts our assumption that angle B not=angle DEF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 angle B=angle DEF, and the 2 triangles are congruent by ASA, as mentioned in step #1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26744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3. Assume SSS and prove S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e have two triangles, as shown in the diagram. Angle A=angle EDF, AB=DE, and AC=DF. Prove that the two triangles are congruen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BC=EF, then the two triangles are congruent, by SSS. So, assume that BC not=EF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nd the point G (on the same side of line DE as F is) so that DF=DG and BC=EG. We do this by drawing arcs of those radii and finding where they intersect, if they do intersec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iangle ABC=triangle DEG [SSS]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gle A=angle EDG [definition of congruence of triangles]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gle EDG=angle EDF [both=angle A]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, they are the same angle. And F and G are the same point. And EF=BC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ontradicts our assumption that BC not=EF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 BC=EF, and the triangles are congruent by SSS, as mentioned in step #1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4038480" cy="15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29:27Z</dcterms:created>
  <dc:creator>010555</dc:creator>
  <dc:description/>
  <dc:language>en-US</dc:language>
  <cp:lastModifiedBy>010555</cp:lastModifiedBy>
  <dcterms:modified xsi:type="dcterms:W3CDTF">2008-04-24T16:47:50Z</dcterms:modified>
  <cp:revision>3</cp:revision>
  <dc:subject/>
  <dc:title>Triangles</dc:title>
</cp:coreProperties>
</file>